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3E55-989C-4BEC-A36F-2145B384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2C60-0341-4171-B100-CCA07B03A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AEF-9A4A-4C47-9E6E-25CC38E4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3AE-1483-4B5B-83EA-CFE1591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A12-4822-4687-98F7-A9513F94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CD3-5A67-4D61-A816-7AE7E16C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8C52-42DB-4639-AA86-E221912C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36B-C1C0-4928-B63E-4507DA2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1CAE-9063-4308-8A75-6636871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B020-9D08-48BF-9577-433FB114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BCF-9111-4035-A47C-D23CFAC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2ED-3E1D-4F7F-9ED9-A12FBA30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75E-6D05-45C0-94F8-A849B0F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EA4-DAB1-4264-AD4D-F1C5863D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84CC-ECBB-4B7D-A742-824460A8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2FB6-85C9-43A9-8477-F10A6EE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A280-05A3-48BD-B444-9C4882F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F3C0-52CB-4640-8711-F41A174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21BF-43C3-47C4-B7A4-77CD5106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E1E-0458-4430-800D-D25A951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47E-6C2E-4931-B0A2-148BE71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451-2426-4A5C-9374-D5D16D76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0B2-76B6-4286-A302-6A1F2FC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A6C-4561-4054-B1C3-CFC694E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B38-E69A-4794-9891-EB42C09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821-F338-4367-873C-9A53DFA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4A9-72CB-4878-BD54-11131B62E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91A7-3113-4AA5-90DA-8EAC16C85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anish Foo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Foo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zpacho, Paella, Pescado Frito, and Quesa Manche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zpacho                               Quesa Manch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gazpacho"/>
          <p:cNvPicPr/>
          <p:nvPr/>
        </p:nvPicPr>
        <p:blipFill>
          <a:blip r:embed="rId1"/>
          <a:stretch/>
        </p:blipFill>
        <p:spPr>
          <a:xfrm>
            <a:off x="15228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 flipH="1">
            <a:off x="1676160" y="4343400"/>
            <a:ext cx="759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paella-200x167"/>
          <p:cNvPicPr/>
          <p:nvPr/>
        </p:nvPicPr>
        <p:blipFill>
          <a:blip r:embed="rId2"/>
          <a:stretch/>
        </p:blipFill>
        <p:spPr>
          <a:xfrm>
            <a:off x="3276720" y="3124080"/>
            <a:ext cx="2361960" cy="1965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Queso_manchego_002"/>
          <p:cNvPicPr/>
          <p:nvPr/>
        </p:nvPicPr>
        <p:blipFill>
          <a:blip r:embed="rId3"/>
          <a:stretch/>
        </p:blipFill>
        <p:spPr>
          <a:xfrm>
            <a:off x="6019920" y="4343400"/>
            <a:ext cx="2342880" cy="222876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>
            <a:off x="70866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ique Foo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necillos del Santo, Turron, Mazapanes, and Roscon de Rey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r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ecillos del Sant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scon de Re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jidase"/>
          <p:cNvPicPr/>
          <p:nvPr/>
        </p:nvPicPr>
        <p:blipFill>
          <a:blip r:embed="rId1"/>
          <a:stretch/>
        </p:blipFill>
        <p:spPr>
          <a:xfrm>
            <a:off x="609480" y="4419720"/>
            <a:ext cx="2514600" cy="1973160"/>
          </a:xfrm>
          <a:prstGeom prst="rect">
            <a:avLst/>
          </a:prstGeom>
          <a:ln w="0">
            <a:noFill/>
          </a:ln>
        </p:spPr>
      </p:pic>
      <p:sp>
        <p:nvSpPr>
          <p:cNvPr id="139" name="Line 6"/>
          <p:cNvSpPr/>
          <p:nvPr/>
        </p:nvSpPr>
        <p:spPr>
          <a:xfrm>
            <a:off x="160020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5309904886_98359e7d33_o"/>
          <p:cNvPicPr/>
          <p:nvPr/>
        </p:nvPicPr>
        <p:blipFill>
          <a:blip r:embed="rId2"/>
          <a:stretch/>
        </p:blipFill>
        <p:spPr>
          <a:xfrm>
            <a:off x="3581280" y="3200400"/>
            <a:ext cx="2210040" cy="217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art_579_30122008301229452826_orig"/>
          <p:cNvPicPr/>
          <p:nvPr/>
        </p:nvPicPr>
        <p:blipFill>
          <a:blip r:embed="rId3"/>
          <a:stretch/>
        </p:blipFill>
        <p:spPr>
          <a:xfrm>
            <a:off x="6095880" y="42670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Line 11"/>
          <p:cNvSpPr/>
          <p:nvPr/>
        </p:nvSpPr>
        <p:spPr>
          <a:xfrm>
            <a:off x="4495680" y="31240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723888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alti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fast- 8am It mostly consists of coffee and pas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ch-2pm It’s the largest meal of the day and has 3 cour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ack- 5pm They have hot chocolate eaten with churr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ner-8pm Small meal consisting of salad or s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hotchocolate"/>
          <p:cNvPicPr/>
          <p:nvPr/>
        </p:nvPicPr>
        <p:blipFill>
          <a:blip r:embed="rId1"/>
          <a:stretch/>
        </p:blipFill>
        <p:spPr>
          <a:xfrm>
            <a:off x="6705720" y="533412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dt-spanishtortilla"/>
          <p:cNvPicPr/>
          <p:nvPr/>
        </p:nvPicPr>
        <p:blipFill>
          <a:blip r:embed="rId2"/>
          <a:stretch/>
        </p:blipFill>
        <p:spPr>
          <a:xfrm>
            <a:off x="228600" y="0"/>
            <a:ext cx="25146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053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mous Dish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il_fi" descr="http://www.outboardmotoroilblog.com/wp-content/uploads/2011/07/fish-paella.jpg"/>
          <p:cNvPicPr/>
          <p:nvPr/>
        </p:nvPicPr>
        <p:blipFill>
          <a:blip r:embed="rId1"/>
          <a:stretch/>
        </p:blipFill>
        <p:spPr>
          <a:xfrm>
            <a:off x="1447920" y="1905120"/>
            <a:ext cx="2666880" cy="2428920"/>
          </a:xfrm>
          <a:prstGeom prst="rect">
            <a:avLst/>
          </a:prstGeom>
          <a:ln w="0">
            <a:noFill/>
          </a:ln>
        </p:spPr>
      </p:pic>
      <p:pic>
        <p:nvPicPr>
          <p:cNvPr id="150" name="il_fi" descr="http://www.pastrypal.com/wp-content/uploads/2009/09/spain-13.jpg"/>
          <p:cNvPicPr/>
          <p:nvPr/>
        </p:nvPicPr>
        <p:blipFill>
          <a:blip r:embed="rId2"/>
          <a:stretch/>
        </p:blipFill>
        <p:spPr>
          <a:xfrm>
            <a:off x="4876920" y="41911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914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 CHOCO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ique Cooking Utens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il_fi" descr="http://3.bp.blogspot.com/-XsD8Y8O1rs0/TpW73ZrhBMI/AAAAAAAAF-E/XULfUTJrbkQ/s640/ESP-Kitchen-Giveaway.jpg"/>
          <p:cNvPicPr/>
          <p:nvPr/>
        </p:nvPicPr>
        <p:blipFill>
          <a:blip r:embed="rId1"/>
          <a:stretch/>
        </p:blipFill>
        <p:spPr>
          <a:xfrm>
            <a:off x="914400" y="29718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justinsomnia.org/images/paella-cooking-in-a-paella-pan.jpg"/>
          <p:cNvPicPr/>
          <p:nvPr/>
        </p:nvPicPr>
        <p:blipFill>
          <a:blip r:embed="rId2"/>
          <a:stretch/>
        </p:blipFill>
        <p:spPr>
          <a:xfrm>
            <a:off x="4495680" y="2971800"/>
            <a:ext cx="3619800" cy="26668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5181480" y="3733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ELLA  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od Tradi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New Year comes in Spain, children have to eat Panecillos del santo. It is a type of bread that helps the kids not choke in the New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il_fi" descr="http://2.bp.blogspot.com/_CqUIJ645Vx4/THJsh9pWrsI/AAAAAAAACXY/am6E2sTMwmk/s1600/Partybrot+(pan+de+fiesta)+1.jpg"/>
          <p:cNvPicPr/>
          <p:nvPr/>
        </p:nvPicPr>
        <p:blipFill>
          <a:blip r:embed="rId1"/>
          <a:stretch/>
        </p:blipFill>
        <p:spPr>
          <a:xfrm>
            <a:off x="2819520" y="3657600"/>
            <a:ext cx="3085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2:57:51Z</dcterms:created>
  <dc:creator> </dc:creator>
  <dc:description/>
  <dc:language>en-US</dc:language>
  <cp:lastModifiedBy>teacher</cp:lastModifiedBy>
  <dcterms:modified xsi:type="dcterms:W3CDTF">2013-01-04T17:32:39Z</dcterms:modified>
  <cp:revision>6</cp:revision>
  <dc:subject/>
  <dc:title>Spanish Food!!!!</dc:title>
</cp:coreProperties>
</file>